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jpeg" ContentType="image/jpeg"/>
  <Override PartName="/ppt/media/image13.wmf" ContentType="image/x-wmf"/>
  <Override PartName="/ppt/media/image20.jpeg" ContentType="image/jpe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3.jpeg" ContentType="image/jpeg"/>
  <Override PartName="/ppt/media/image37.jpeg" ContentType="image/jpeg"/>
  <Override PartName="/ppt/media/image38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42.jpeg" ContentType="image/jpeg"/>
  <Override PartName="/ppt/media/image43.wmf" ContentType="image/x-wmf"/>
  <Override PartName="/ppt/media/image5.png" ContentType="image/png"/>
  <Override PartName="/ppt/media/image35.png" ContentType="image/png"/>
  <Override PartName="/ppt/media/image46.wmf" ContentType="image/x-wmf"/>
  <Override PartName="/ppt/media/image3.png" ContentType="image/png"/>
  <Override PartName="/ppt/media/image26.png" ContentType="image/png"/>
  <Override PartName="/ppt/media/image8.jpeg" ContentType="image/jpeg"/>
  <Override PartName="/ppt/media/image3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A7DFD50-BACD-496B-9091-0167D6BE819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165B61-43ED-46C6-B5E2-92F20D540F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EBC540-CE3A-4E31-B346-DBA6F1E9E1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BF7E35-76D2-44F7-A870-2C92CC62FD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4B5247-AB11-437D-880E-7437F4D3F2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9EC5777-A9A4-40B4-B45E-D14DCC04E2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593ACE-ECBD-462A-8743-DAD4D3A9D9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9C1BBB-7688-4B37-BE64-291BE233F5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4FDCE7-BE77-49DF-92C7-30F9533FFC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BA9FD00-F420-4665-8191-08367B5DC0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87753E-3A8F-44D0-A093-A9DA436B51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7268FC8-6EFC-4E89-80E2-7BAB102B0C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76CD7DD-44B2-470E-B335-E3308DD4AE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32ADA3-9189-44F1-BB05-B9745FDDD4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6F089B-6F7B-4A9B-B4CF-D6C0407169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1D8800-4300-4F08-AF7E-95FE8DA5ED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C56C32-3050-4F1A-ACAD-A2AB99FCB3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523291-6D73-4B8D-84D5-BC0FD96260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20E600C-29E6-4193-AF92-3385E69706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F770146-9374-4EE7-8687-C6FA3B0A33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81FBCC-BB25-4D06-BCFC-8B95C4063F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E9A31F-DF61-48D2-B205-72E9EF8357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1C31C2-25B3-4B31-A452-CC6855005A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957FD9-DE57-49D8-8FCA-5642FF24FA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272DFBD-4314-4675-AE3A-6477DDEBDD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liennummernplatzhalt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BE3F4E-4D93-4D60-A8FA-CC8C7F5219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851D39A-FA7C-40DB-A960-948B31A634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97955E-7D59-406D-A2D2-82050A8EEE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0F67ED-314B-4C51-BFC4-5CE303A11A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C547D4-54D9-4DE7-8A42-DE5380BE9E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12074F-F30C-4FA0-8309-5E29154B94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5A30D34-800B-4B0A-A232-6BB50851BC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DD6BB1-B1D6-49DD-959D-3A8857ADF9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B9B98A-E2EA-4D7B-B5E5-E51DBA4D9F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7B69B7-A030-4FFA-A41E-723A7B2F1A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533D8C-0468-497F-A2DF-98A47BE4A4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AB8D98A-1CD3-4DCA-948D-4CD202DF35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D8B96D0-9E87-4BAA-9A9E-233C2E6403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2D674A-6627-45DA-9D9F-186C33C56B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7ADC99-49CF-4983-BC60-67338D4CB4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ED76F6-28AC-4858-9F3E-10C4FF8A26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234A-846F-4F07-A4F5-084948C5A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7292-F0EB-4A92-BD57-BA025F81A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89C0-B983-4E8A-B83B-D02D675D6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406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44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504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406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44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8815-2BDB-4562-8799-D4236A8C0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4B26F-8291-4F57-A60F-42DF1BBA57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9FC46-0F60-496D-9161-A583E2D054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14F85-8B00-416C-9D72-A3A2B1A42D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2401A-D983-4F5D-8B17-D7C16B1C32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80E4E-9A39-48D6-A68B-ECC5C8FED6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8560" y="539280"/>
            <a:ext cx="7197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837AE-4029-4473-9EC2-017EEEC1A0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9CAE0-D5CE-494D-9833-CDA5B1303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D393-8DC5-41E9-B39B-E8312D0B0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900FB-42DB-482A-B4C8-BC32B03F4F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8025C-BE3C-4FFE-96CC-382956C3F0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0A5EF-0DE7-4352-B0C0-DB88322F12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AC7A1-99A6-4175-9153-C9B863F5EA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06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044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504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06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044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7FB5C-E0A9-4551-B16A-5DCD86DCD8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4599-8B62-48A8-B177-0568B07C22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E7B1-93E7-4307-BC47-4CF02CD842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07AD-E75D-424E-871C-C034266632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09DD-C243-4743-896D-57D99BFA21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1DD2-4F05-4DD0-B3AD-A02F2C2A0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026E-54D1-4CE8-B063-1E1D4AC51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58560" y="539280"/>
            <a:ext cx="7197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51AA-5335-48B9-884D-7EB815EFE4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FBD4-016F-4E45-8DBF-8D6BA8670B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3CA8-F965-455D-83BC-EB147183A0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B9BB-B199-4C7F-B12F-41E0414150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83C6-9BA3-472C-94A8-DD29CE415C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EA55-AF95-4B85-B54E-778DF8F3A8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406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3044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504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406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3044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2A32-E9DF-4D2E-98EF-A167E9465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8BA4-8512-4276-9060-5D24D9EF4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37B8-A900-497D-93F0-D9E5F9B0F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58560" y="539280"/>
            <a:ext cx="7197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F45D-A1D2-4779-94D9-F9A611CD2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71EC-A974-44CC-B66A-7DED47897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CE2E-6B11-47CA-ABD1-385771CC6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4ED8-C8E3-4424-B52C-9561DE324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294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008fd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294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008fd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294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82560" y="6322680"/>
            <a:ext cx="5973840" cy="17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ac05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ac051"/>
                </a:solidFill>
                <a:latin typeface="Times New Roman"/>
              </a:rPr>
              <a:t>TITLE | event |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61120" y="6324120"/>
            <a:ext cx="718920" cy="17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ac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3FF1-513F-463A-AC0A-F87CE757797D}" type="slidenum">
              <a:rPr b="0" lang="en-US" sz="800" spc="-1" strike="noStrike">
                <a:solidFill>
                  <a:srgbClr val="8ac051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294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008fd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294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008fd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294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58560" y="6322680"/>
            <a:ext cx="7197480" cy="17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ac05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Times New Roman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Times New Roman"/>
              </a:rPr>
              <a:t> | Chania Meeting | 09.09.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8061120" y="6324120"/>
            <a:ext cx="718920" cy="17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ac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87D4-5382-48E9-A0FE-3348C37E577D}" type="slidenum">
              <a:rPr b="0" lang="en-US" sz="800" spc="-1" strike="noStrike">
                <a:solidFill>
                  <a:srgbClr val="8ac051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294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008fd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294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008fd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294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1582560" y="6322680"/>
            <a:ext cx="5973840" cy="17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ac05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Times New Roman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Times New Roman"/>
              </a:rPr>
              <a:t> | Chania Meeting | 09.09.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8061120" y="6324120"/>
            <a:ext cx="718920" cy="17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ac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926A-E235-4FC9-A938-222B723B5370}" type="slidenum">
              <a:rPr b="0" lang="en-US" sz="800" spc="-1" strike="noStrike">
                <a:solidFill>
                  <a:srgbClr val="8ac051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obalsources.com/gsol/I/Rear-View-Mirror/p/sm/1003100834.htm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itialridertraini/??????ng.eu" TargetMode="Externa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58920" y="6323040"/>
            <a:ext cx="71974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1897-0B32-4F58-8E1C-537E82BBE724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819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e"/>
                </a:solidFill>
                <a:latin typeface="Arial"/>
              </a:rPr>
              <a:t>BRUSSELS MEE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7720" y="4952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ac051"/>
                </a:solidFill>
                <a:latin typeface="Arial"/>
              </a:rPr>
              <a:t>WP 6.1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ac051"/>
                </a:solidFill>
                <a:latin typeface="Arial"/>
              </a:rPr>
              <a:t>Martin Winkelbau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. Institutional Organisation of Road Safe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ACEM Guidelines for PTW- Safer Road Design in Europe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PTW Risk Factors and Countermeasure Guideline – EC DG TREN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European Agenda for Motorcycle Safety – FEMA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PROMISING – Integration of Needs of Moped and Motorcycle Riders into Safety Measures 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Guide for Addressing Collisions Involving Motorcycles – NCHRP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National Agenda for Motorcycle Safety – National Highway Traffic Safety Administration USA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Vulnerable Riders – ETSC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Motorcycling Strategy – UK Department for Transport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Motorcycling in Scotland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4553-ABB1-497B-B844-92C0DFF0818A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Road Safety Programmes and Targe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. Institutional Organisation of Road Safe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MC Safety – Norwegian Road Administration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Merkblatt zur Verbesserung der Verkehrssicherheit auf Motorradstrecken – FGSV Germany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National Road Safety Strategy of the Czech Republic 2004-2010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Spanish PTW Road Safety Plan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Motorcycle Safety in Northern Ireland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Austrian Road Safety Program 2002 to 2010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Australian road safety strategies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Victoria's Action Plan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The accident risk of motorcyclists – TRL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Foliennummernplatzhalter 5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47C5-07F0-4962-B9FE-9EBE0D709F46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Road Safety Programmes and Targe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2. Road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Organisational Measur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easures Supporting the Self</a:t>
            </a:r>
            <a:r>
              <a:rPr b="0" lang="de-AT" sz="19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Explaining Nature of Road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easures Supporting the Forgiving Nature of Road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Intersection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strictive Measur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easures for Urban Traffic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avement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6CD-215D-418C-9BDE-472571718378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2. Road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Guidelines on Road Design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Road Safety Audit (RSA)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Road Safety Inspection (RSI)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3CAC-103D-4B61-B61A-70147A732686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Organisational Measu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4857840" y="164304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94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ffffff"/>
                </a:solidFill>
                <a:latin typeface="Arial"/>
              </a:rPr>
              <a:t>2. Road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ignposting of Speed Limits and Dangerous Spots in Curv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Clarification / Highlighting of Longitudinal Roadway Arrangement by Destination Panels and Marker Pos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Elimination of Sight Barriers in Curves and Improving Sight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68BF-275E-4C47-AD6D-9A5433A8C20C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Measures supporting the Self-Explaining Nature of Road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286160" y="3214800"/>
            <a:ext cx="2500560" cy="1949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642960" y="3214800"/>
            <a:ext cx="2585880" cy="1941480"/>
          </a:xfrm>
          <a:prstGeom prst="rect">
            <a:avLst/>
          </a:prstGeom>
          <a:ln w="0">
            <a:noFill/>
          </a:ln>
        </p:spPr>
      </p:pic>
      <p:sp>
        <p:nvSpPr>
          <p:cNvPr id="201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2. Road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Elimination of Dangerous Obstacles in Bend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redictable Curvatur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Tubular Beam Barrier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Avoidance of Wire Rope Barri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Underride Barriers for Guardrail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3C7F-0E88-413A-BDCB-BA64B88FDAF0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Measures supporting the Forgiving Nature of Road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5786280" y="392904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5786280" y="1643040"/>
            <a:ext cx="2557800" cy="1928880"/>
          </a:xfrm>
          <a:prstGeom prst="rect">
            <a:avLst/>
          </a:prstGeom>
          <a:ln w="0">
            <a:noFill/>
          </a:ln>
        </p:spPr>
      </p:pic>
      <p:sp>
        <p:nvSpPr>
          <p:cNvPr id="208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2. Road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construction of Intersection Poin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Entry Angle at Roundabou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7908-20D0-4A7D-B50A-DDDEB2330C0B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Intersect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5500800" y="1714680"/>
            <a:ext cx="2771640" cy="1819080"/>
          </a:xfrm>
          <a:prstGeom prst="rect">
            <a:avLst/>
          </a:prstGeom>
          <a:ln w="0">
            <a:noFill/>
          </a:ln>
        </p:spPr>
      </p:pic>
      <p:sp>
        <p:nvSpPr>
          <p:cNvPr id="214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2. Road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peed Limits for PTW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peed Limits at Hazardous Sit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Ban on Pass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8BA1-2D97-4391-8E61-DA117ECD6A72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Organisational and Restrictive Measu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9" name="Picture 2" descr="lo_62_archiv800_24581"/>
          <p:cNvPicPr/>
          <p:nvPr/>
        </p:nvPicPr>
        <p:blipFill>
          <a:blip r:embed="rId2"/>
          <a:stretch/>
        </p:blipFill>
        <p:spPr>
          <a:xfrm>
            <a:off x="6143760" y="1714680"/>
            <a:ext cx="1771560" cy="2695320"/>
          </a:xfrm>
          <a:prstGeom prst="rect">
            <a:avLst/>
          </a:prstGeom>
          <a:ln w="0">
            <a:noFill/>
          </a:ln>
        </p:spPr>
      </p:pic>
      <p:sp>
        <p:nvSpPr>
          <p:cNvPr id="220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2. Road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Use of Bus Lanes by PTW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Advanced Stop Lines for PTW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TW Parking within Intersection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B939-89AC-41F1-BFA9-DBD640863BB3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Measures for Urban Traff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5" name="Picture 2" descr="Motorcycle in a bus lane"/>
          <p:cNvPicPr/>
          <p:nvPr/>
        </p:nvPicPr>
        <p:blipFill>
          <a:blip r:embed="rId2"/>
          <a:stretch/>
        </p:blipFill>
        <p:spPr>
          <a:xfrm>
            <a:off x="5500800" y="157176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226" name="Bild 4" descr=""/>
          <p:cNvPicPr/>
          <p:nvPr/>
        </p:nvPicPr>
        <p:blipFill>
          <a:blip r:embed="rId3"/>
          <a:stretch/>
        </p:blipFill>
        <p:spPr>
          <a:xfrm>
            <a:off x="785880" y="3143160"/>
            <a:ext cx="3419280" cy="2400480"/>
          </a:xfrm>
          <a:prstGeom prst="rect">
            <a:avLst/>
          </a:prstGeom>
          <a:ln w="0">
            <a:noFill/>
          </a:ln>
        </p:spPr>
      </p:pic>
      <p:sp>
        <p:nvSpPr>
          <p:cNvPr id="227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2. Road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Surface Grip &amp; Consistency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Road Surface Test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Consistency of Surface Level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Improvement of the Transversal Slope (Crossfall) in Curv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Improvement of Pavement Friction on New Asphalt Surfac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Further Issues concerning Friction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E6C7-275A-48B3-AC3F-1C996901A67A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Pave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2" name="Picture 3" descr="ROADstar"/>
          <p:cNvPicPr/>
          <p:nvPr/>
        </p:nvPicPr>
        <p:blipFill>
          <a:blip r:embed="rId2"/>
          <a:stretch/>
        </p:blipFill>
        <p:spPr>
          <a:xfrm>
            <a:off x="642960" y="3878280"/>
            <a:ext cx="2857320" cy="2141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3997440" y="3878280"/>
            <a:ext cx="2503440" cy="2143080"/>
          </a:xfrm>
          <a:prstGeom prst="rect">
            <a:avLst/>
          </a:prstGeom>
          <a:ln w="0">
            <a:noFill/>
          </a:ln>
        </p:spPr>
      </p:pic>
      <p:sp>
        <p:nvSpPr>
          <p:cNvPr id="234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ntitative Overvi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33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EA1D-7441-4089-AFBC-1C57C40A7C2E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Measu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Overall number of 123 measur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2203560" y="1878120"/>
            <a:ext cx="60991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3. Vehicles and Safety Devi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Organisational Measur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Brak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Passive Safety Devic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Rider Assistance Systems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Other Technical Specification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99DF-A30D-467F-BA43-0644F8FD3CEA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3. Vehicles and Safety Devi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Type Approval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Definition of a Moped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quirements for Statutory Mark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aximum Speed of PTW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ounting the Rear Registration Plat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9C13-23D3-427A-9AF0-AA485F0E50F1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Organisational Measu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5857920" y="1714680"/>
            <a:ext cx="1733400" cy="1581120"/>
          </a:xfrm>
          <a:prstGeom prst="rect">
            <a:avLst/>
          </a:prstGeom>
          <a:ln w="0">
            <a:noFill/>
          </a:ln>
        </p:spPr>
      </p:pic>
      <p:sp>
        <p:nvSpPr>
          <p:cNvPr id="245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3. Vehicles and Safety Devi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quirements for Brak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ABS and other Advanced Braking System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D9D-EC63-4BCB-BBFC-871E5A1DE391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Brak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0" name="Picture 2" descr="bmwabsasc1"/>
          <p:cNvPicPr/>
          <p:nvPr/>
        </p:nvPicPr>
        <p:blipFill>
          <a:blip r:embed="rId2"/>
          <a:stretch/>
        </p:blipFill>
        <p:spPr>
          <a:xfrm>
            <a:off x="642960" y="3000240"/>
            <a:ext cx="3002040" cy="2214720"/>
          </a:xfrm>
          <a:prstGeom prst="rect">
            <a:avLst/>
          </a:prstGeom>
          <a:ln w="0">
            <a:noFill/>
          </a:ln>
        </p:spPr>
      </p:pic>
      <p:sp>
        <p:nvSpPr>
          <p:cNvPr id="251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3. Vehicles and Safety Devi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Safety Belts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Motorcycle Airbags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Protective Cages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1575-69E6-4812-9997-D192AB8CF880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42e"/>
                </a:solidFill>
                <a:latin typeface="Arial"/>
              </a:rPr>
              <a:t>Safety Devices adapted from Automobiles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267000" cy="2400480"/>
          </a:xfrm>
          <a:prstGeom prst="rect">
            <a:avLst/>
          </a:prstGeom>
          <a:ln w="0">
            <a:noFill/>
          </a:ln>
        </p:spPr>
      </p:pic>
      <p:sp>
        <p:nvSpPr>
          <p:cNvPr id="257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258" name="Grafik 8" descr="http://www.motorcyclespecs.co.za/Gallery/bmw%20c1-200.jpg"/>
          <p:cNvPicPr/>
          <p:nvPr/>
        </p:nvPicPr>
        <p:blipFill>
          <a:blip r:embed="rId3"/>
          <a:stretch/>
        </p:blipFill>
        <p:spPr>
          <a:xfrm>
            <a:off x="5435640" y="1197000"/>
            <a:ext cx="3240000" cy="2525760"/>
          </a:xfrm>
          <a:prstGeom prst="rect">
            <a:avLst/>
          </a:prstGeom>
          <a:ln w="0">
            <a:noFill/>
          </a:ln>
        </p:spPr>
      </p:pic>
      <p:pic>
        <p:nvPicPr>
          <p:cNvPr id="259" name="Grafik 10" descr=""/>
          <p:cNvPicPr/>
          <p:nvPr/>
        </p:nvPicPr>
        <p:blipFill>
          <a:blip r:embed="rId4"/>
          <a:stretch/>
        </p:blipFill>
        <p:spPr>
          <a:xfrm>
            <a:off x="5438880" y="3876840"/>
            <a:ext cx="32367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3. Vehicles and Safety Devi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Advanced Driver Assistance Systems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Collision Warning and Avoidance Systems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Curve Speed Warnings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42e"/>
                </a:solidFill>
                <a:latin typeface="Arial"/>
              </a:rPr>
              <a:t>Rider Assistance Syste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Foliennummernplatzhalter 5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1FB3-D7C0-4DCA-BCCA-81D85C720D6B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64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265" name="Grafik 7" descr="Rider Support System on the Yamaha ASV-2 Model "/>
          <p:cNvPicPr/>
          <p:nvPr/>
        </p:nvPicPr>
        <p:blipFill>
          <a:blip r:embed="rId2"/>
          <a:stretch/>
        </p:blipFill>
        <p:spPr>
          <a:xfrm>
            <a:off x="3780000" y="3068640"/>
            <a:ext cx="4286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3. Vehicles and Safety Devi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ar-view Mirro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pecifications of Tyres &amp; Wheel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ethod of Measuring Tyre Rolling Circumference for New Tyres under Loaded Condition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Wheels and Rim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Trailer Coupling Devic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tands for Two Wheel Motor Vehicl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Audible Warning Devic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tandardised Speedomet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tandardised Symbols on Controls, Telltales and Indicato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A5E0-8926-4CF8-BAD5-5D7FE4FB4384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Other Technical Specificat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0" name="Picture 2" descr="Global Sourc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72200" y="2714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4"/>
          <a:stretch/>
        </p:blipFill>
        <p:spPr>
          <a:xfrm>
            <a:off x="5214960" y="2786040"/>
            <a:ext cx="1619280" cy="1381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Kawasaki Speedometer"/>
          <p:cNvPicPr/>
          <p:nvPr/>
        </p:nvPicPr>
        <p:blipFill>
          <a:blip r:embed="rId5"/>
          <a:stretch/>
        </p:blipFill>
        <p:spPr>
          <a:xfrm>
            <a:off x="6997680" y="4857840"/>
            <a:ext cx="1774800" cy="1333440"/>
          </a:xfrm>
          <a:prstGeom prst="rect">
            <a:avLst/>
          </a:prstGeom>
          <a:ln w="0">
            <a:noFill/>
          </a:ln>
        </p:spPr>
      </p:pic>
      <p:sp>
        <p:nvSpPr>
          <p:cNvPr id="273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4. Conspicuity &amp; Ligh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Guideline for Daylight Rid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iding in the Dark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Type Approval of Lighting and Light-Signalling Devic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Installation of Lighting and Light-Signalling Devic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Daytime Running Ligh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Xenon Headlamp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andatory Use of Headligh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Dipped Beam Inclination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Adaptive Front Lightn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5871-6DF9-47C1-9E26-9A9DB35EBFD0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154560" y="2857680"/>
            <a:ext cx="2389320" cy="3295440"/>
          </a:xfrm>
          <a:prstGeom prst="rect">
            <a:avLst/>
          </a:prstGeom>
          <a:ln w="0">
            <a:noFill/>
          </a:ln>
        </p:spPr>
      </p:pic>
      <p:sp>
        <p:nvSpPr>
          <p:cNvPr id="279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5. Environmental Issu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quirements Concerning Air Pollution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quirements Concerning the Permissible Sound Level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7229-2723-443E-9090-1D874C95FBC6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6. Protective Equip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Obligatory Helmet Use for PTW Riders and Passeng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tandards for Eye Protection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Eye Protection Regulation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rotective Gloves for Professional Motorcycle Rid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Impact Protectors for Motorcyclis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rotective Clothing for Professional Motorcycle Rid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rotective Footwear for Professional Motorcycle Rid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Airbag Jacke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94BC-893D-4B9F-9326-0E5D1EB18002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9" name="MainImage" descr="ICON Men's MERC Riding Gloves - Long - Red"/>
          <p:cNvPicPr/>
          <p:nvPr/>
        </p:nvPicPr>
        <p:blipFill>
          <a:blip r:embed="rId2"/>
          <a:stretch/>
        </p:blipFill>
        <p:spPr>
          <a:xfrm>
            <a:off x="6804000" y="162864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290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291" name="Picture 10" descr="http://www.ridelust.com/wp-content/uploads/m1x00181_crashtestdummy.jpg"/>
          <p:cNvPicPr/>
          <p:nvPr/>
        </p:nvPicPr>
        <p:blipFill>
          <a:blip r:embed="rId3"/>
          <a:stretch/>
        </p:blipFill>
        <p:spPr>
          <a:xfrm>
            <a:off x="5586480" y="4076640"/>
            <a:ext cx="316224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. Driver Education, Licensing and Te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Licensing, Basic Train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ost Licensing Train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Behaviour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9E9F-6C7A-4264-89A9-ECECFF144178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297" name="Picture 8" descr="http://www.mep-ride.eu/images/logo_irt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2349360"/>
            <a:ext cx="5238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ntitative Overvi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40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AAE0-A8AC-416D-BF86-54CCE0B5DD97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tretch/>
        </p:blipFill>
        <p:spPr>
          <a:xfrm>
            <a:off x="1042920" y="961920"/>
            <a:ext cx="7047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. Driver Education, Licensing and Te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Legal Regulations for Obtaining a PTW Riding Licens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Categorisation of Driving Licens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Graduated Licens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Age Limitations for Obtaining a Driving Licens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quirements to Ride a Moped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Obtaining a Full Motorcycle Licence Once in Possession of a Provisional Licenc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Obtaining a Full Motorcycle Licence Once in Possession of a Moped Licenc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Access to Certain PTW Classes for People with a Full Car Licenc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Initial Rider Train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43C7-CAA9-4469-804D-B0C9AE509E54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Licensing, Basic Train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. Driver Education, Licensing and Te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ultiphase Education” (MPE)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Age Limitations for Pillion Passeng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Technical Trainings Held by the Polic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Workshops for Young Moped Rid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ractical Training for Young Moped Rid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Brake handling Test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ide-Outs for New PTW buy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Group Work and Problem Based Learning in Experienced Rider Train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Test of Practical Behaviour on a PTW-Simulator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Establishment of an Advanced Riding Network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pecial Licenses for Riders in Sports Competition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F680-B446-4F82-9CEA-02AE848419C2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Post Licensing Train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7" name="Picture 2" descr="MR_Slalom"/>
          <p:cNvPicPr/>
          <p:nvPr/>
        </p:nvPicPr>
        <p:blipFill>
          <a:blip r:embed="rId2"/>
          <a:stretch/>
        </p:blipFill>
        <p:spPr>
          <a:xfrm>
            <a:off x="5643720" y="1714680"/>
            <a:ext cx="2336760" cy="1785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Honda SMART Riding Trainer"/>
          <p:cNvPicPr/>
          <p:nvPr/>
        </p:nvPicPr>
        <p:blipFill>
          <a:blip r:embed="rId3"/>
          <a:stretch/>
        </p:blipFill>
        <p:spPr>
          <a:xfrm>
            <a:off x="6072120" y="4357800"/>
            <a:ext cx="2143080" cy="1714320"/>
          </a:xfrm>
          <a:prstGeom prst="rect">
            <a:avLst/>
          </a:prstGeom>
          <a:ln w="0">
            <a:noFill/>
          </a:ln>
        </p:spPr>
      </p:pic>
      <p:sp>
        <p:nvSpPr>
          <p:cNvPr id="309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. Driver Education, Licensing and Te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Code of Behaviour for PTW Rid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Code of Behaviour for PTW Pillion Passeng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C462-7087-43E6-A023-0734E6CAF8B2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8. Traffic Law &amp; Enforce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Framework for Motorcycle Law: Road Traffic Law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otorcycle Vehicle Law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pecial Enforcement Strategi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topping in Front of Other Vehicl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Riding a Motorcycle Alongside More Than One Other Rider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Introducing a Motorcycle Safety Levy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pecific Marking for Different Vehicle Group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ar Registration Plat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easuring Power and Speed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eriodic Test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700A-55BB-4426-9952-45D98C63F88A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1914480" cy="1428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2724120" cy="1866960"/>
          </a:xfrm>
          <a:prstGeom prst="rect">
            <a:avLst/>
          </a:prstGeom>
          <a:ln w="0">
            <a:noFill/>
          </a:ln>
        </p:spPr>
      </p:pic>
      <p:sp>
        <p:nvSpPr>
          <p:cNvPr id="321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9. Road Safety Education and Campaig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ignposts, Displays, Roadside Boards and Bills Alongside Dangerous Road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Shocking Films concerning Motorcycle Safety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Using Community Collaboration to Promote Motorcycle Safety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Days of Action against Motorcycle death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Integrated Road Safety Education Programm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Peer Activities to Prevent Drunk Rid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Programmes to Increase Awareness on Safety Helmet Us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F354-940D-4B9E-AD09-FF4C77D82A3F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4284720" y="4356000"/>
            <a:ext cx="1511280" cy="187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1600200" y="4365720"/>
            <a:ext cx="2467080" cy="1866960"/>
          </a:xfrm>
          <a:prstGeom prst="rect">
            <a:avLst/>
          </a:prstGeom>
          <a:ln w="0">
            <a:noFill/>
          </a:ln>
        </p:spPr>
      </p:pic>
      <p:sp>
        <p:nvSpPr>
          <p:cNvPr id="328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329" name="Grafik 9" descr="P:\1_Aktiv\110281_2 BE SAFE_Winkelbauer\61-A6.1\06-Pictures\WearAndLockCampaign.jpg"/>
          <p:cNvPicPr/>
          <p:nvPr/>
        </p:nvPicPr>
        <p:blipFill>
          <a:blip r:embed="rId4"/>
          <a:stretch/>
        </p:blipFill>
        <p:spPr>
          <a:xfrm>
            <a:off x="7380360" y="198900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330" name="Grafik 9" descr="http://www.psv-vorarlberg.at/assets/images/FST/MR_Slalom.JPG"/>
          <p:cNvPicPr/>
          <p:nvPr/>
        </p:nvPicPr>
        <p:blipFill>
          <a:blip r:embed="rId5"/>
          <a:stretch/>
        </p:blipFill>
        <p:spPr>
          <a:xfrm>
            <a:off x="5972040" y="4346640"/>
            <a:ext cx="2776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0. Rehabilitation and Diagnostic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habilitation of Severe Violato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ehabilitation of Young Offend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Traffic‐Psychological Assessment of Drunk Driv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F9D1-24FF-4D9C-8E4F-1CD30A855432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35" name="Picture 2" descr="060216_KfV_Art_166"/>
          <p:cNvPicPr/>
          <p:nvPr/>
        </p:nvPicPr>
        <p:blipFill>
          <a:blip r:embed="rId2"/>
          <a:stretch/>
        </p:blipFill>
        <p:spPr>
          <a:xfrm>
            <a:off x="4500720" y="3286080"/>
            <a:ext cx="3543120" cy="2362320"/>
          </a:xfrm>
          <a:prstGeom prst="rect">
            <a:avLst/>
          </a:prstGeom>
          <a:ln w="0">
            <a:noFill/>
          </a:ln>
        </p:spPr>
      </p:pic>
      <p:sp>
        <p:nvSpPr>
          <p:cNvPr id="336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1. Post Accident Ca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otorcycle Issues in Emergency and First Aid Training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722F-F596-4C7A-911F-71012C61287F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41" name="Picture 2" descr="Helm_ab4_4"/>
          <p:cNvPicPr/>
          <p:nvPr/>
        </p:nvPicPr>
        <p:blipFill>
          <a:blip r:embed="rId2"/>
          <a:stretch/>
        </p:blipFill>
        <p:spPr>
          <a:xfrm>
            <a:off x="4000680" y="2714760"/>
            <a:ext cx="3190680" cy="2133360"/>
          </a:xfrm>
          <a:prstGeom prst="rect">
            <a:avLst/>
          </a:prstGeom>
          <a:ln w="0">
            <a:noFill/>
          </a:ln>
        </p:spPr>
      </p:pic>
      <p:sp>
        <p:nvSpPr>
          <p:cNvPr id="342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343" name="Picture 9" descr="http://www.michiganautolaw.com/auto-lawyers-blog/wp-content/uploads/2009/08/michigan-motorcycle-accident-lawyer.jpg"/>
          <p:cNvPicPr/>
          <p:nvPr/>
        </p:nvPicPr>
        <p:blipFill>
          <a:blip r:embed="rId3"/>
          <a:stretch/>
        </p:blipFill>
        <p:spPr>
          <a:xfrm>
            <a:off x="611280" y="2708280"/>
            <a:ext cx="2881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2. Road Safety Data and Data Colle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Improvement of Data Collection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oad Conflict Investigation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Naturalistic Driv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Field operational Test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In-Depth Analysis of Motorcycle Acciden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4C6A-8751-4D7D-B391-0DC5B796D9AF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349" name="Grafik 8" descr=""/>
          <p:cNvPicPr/>
          <p:nvPr/>
        </p:nvPicPr>
        <p:blipFill>
          <a:blip r:embed="rId2"/>
          <a:srcRect l="1068" t="6621" r="0" b="0"/>
          <a:stretch/>
        </p:blipFill>
        <p:spPr>
          <a:xfrm>
            <a:off x="1476360" y="4005360"/>
            <a:ext cx="5295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3. Measures involving other Vehicl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Other Road Users’ Responsibilities to Rid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Vulnerable Road User Protection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Collision Avoidance System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Inter-Vehicle Communication System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9561-96CE-43BC-B02A-9CCEB84AD95F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4" name="Picture 2" descr="cranfield_airbag021"/>
          <p:cNvPicPr/>
          <p:nvPr/>
        </p:nvPicPr>
        <p:blipFill>
          <a:blip r:embed="rId2"/>
          <a:stretch/>
        </p:blipFill>
        <p:spPr>
          <a:xfrm>
            <a:off x="1258920" y="3807000"/>
            <a:ext cx="2444760" cy="1834920"/>
          </a:xfrm>
          <a:prstGeom prst="rect">
            <a:avLst/>
          </a:prstGeom>
          <a:ln w="0">
            <a:noFill/>
          </a:ln>
        </p:spPr>
      </p:pic>
      <p:sp>
        <p:nvSpPr>
          <p:cNvPr id="355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356" name="Grafik 9" descr=""/>
          <p:cNvPicPr/>
          <p:nvPr/>
        </p:nvPicPr>
        <p:blipFill>
          <a:blip r:embed="rId3"/>
          <a:stretch/>
        </p:blipFill>
        <p:spPr>
          <a:xfrm>
            <a:off x="4859280" y="3789360"/>
            <a:ext cx="3313080" cy="1871640"/>
          </a:xfrm>
          <a:prstGeom prst="rect">
            <a:avLst/>
          </a:prstGeom>
          <a:ln w="0">
            <a:noFill/>
          </a:ln>
        </p:spPr>
      </p:pic>
      <p:pic>
        <p:nvPicPr>
          <p:cNvPr id="357" name="Grafik 8" descr=""/>
          <p:cNvPicPr/>
          <p:nvPr/>
        </p:nvPicPr>
        <p:blipFill>
          <a:blip r:embed="rId4"/>
          <a:stretch/>
        </p:blipFill>
        <p:spPr>
          <a:xfrm>
            <a:off x="5435640" y="1916280"/>
            <a:ext cx="26859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4. Other Measu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easurement of Road Operating Ability of Pure Electric Vehicl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Measurement of Road Energy Performance of Thermal Electric Hybrid Vehicle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Steering Wheel Lock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A2F-CB47-4CB0-881A-8227FD47735C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ntitative Overvi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Foliennummernplatzhalter 5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501D-E1BA-4E22-99A2-7B79143BBCEF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47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468360" y="1252440"/>
            <a:ext cx="842940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C18A-CC42-42C9-B57B-508B0C0BD86D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Any more measures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82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Martin Winkelbau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8252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292929"/>
                </a:solidFill>
                <a:latin typeface="Arial"/>
              </a:rPr>
              <a:t>martin.winkelbauer@kfv.at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2340000" y="515772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367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ntitative Overvi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3E36-A1E4-463C-8617-D895AEB10DBA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1187280" y="950760"/>
            <a:ext cx="6996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7120" y="1208160"/>
            <a:ext cx="8253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Institutional Organisation of Road Safe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oad Infrastructu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Vehicles and Safety Devi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Conspicuity &amp; Ligh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Environmental Iss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Protective Equip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Driver Education, Licensing and Test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Traffic Law &amp; Enforce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oad Safety Education and Campaig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ehabilitation and Diagnostic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Post Accident Ca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oad Safety Data and Data Collec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Measures involving other Vehicl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504360" indent="-329040">
              <a:spcBef>
                <a:spcPts val="45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Other Measur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579A-24E7-491E-94C8-47FA2195831A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050920" y="5157720"/>
            <a:ext cx="504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59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FDE0-AAD3-4332-A900-C4C22759951F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62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81976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. Institutional Organisation of Road Safe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oad Safety Vision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oad Safety Programmes and Target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BC6-E5EA-40EA-8CF7-96BB820D80BC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8560" y="539280"/>
            <a:ext cx="7197480" cy="360360"/>
          </a:xfrm>
          <a:prstGeom prst="rect">
            <a:avLst/>
          </a:prstGeom>
          <a:noFill/>
          <a:ln w="0">
            <a:noFill/>
          </a:ln>
        </p:spPr>
        <p:txBody>
          <a:bodyPr lIns="108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. Institutional Organisation of Road Safe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7120" y="1571400"/>
            <a:ext cx="82533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Vision Zero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IHIE Guidelines for Motorcycling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Barriers to change – Position Paper EuroRAP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f294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Road Safety Lillehammer – Towards Vision Zero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Foliennummernplatzhalter 4"/>
          <p:cNvSpPr/>
          <p:nvPr/>
        </p:nvSpPr>
        <p:spPr>
          <a:xfrm>
            <a:off x="8061480" y="6324480"/>
            <a:ext cx="718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1680-C148-4E7B-8ECC-3B2C0634D179}" type="slidenum">
              <a:rPr b="0" lang="en-US" sz="800" spc="-1" strike="noStrike">
                <a:solidFill>
                  <a:srgbClr val="8ac051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7120" y="928800"/>
            <a:ext cx="7491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2e"/>
                </a:solidFill>
                <a:latin typeface="Arial"/>
              </a:rPr>
              <a:t>Road Safety Vis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Fußzeilenplatzhalter 3"/>
          <p:cNvSpPr/>
          <p:nvPr/>
        </p:nvSpPr>
        <p:spPr>
          <a:xfrm>
            <a:off x="1582560" y="6323040"/>
            <a:ext cx="597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ac051"/>
                </a:solidFill>
                <a:latin typeface="Arial"/>
              </a:rPr>
              <a:t>List of Safety Measures for Powered-Two-Wheelers</a:t>
            </a:r>
            <a:r>
              <a:rPr b="0" lang="en-US" sz="800" spc="-1" strike="noStrike">
                <a:solidFill>
                  <a:srgbClr val="8ac051"/>
                </a:solidFill>
                <a:latin typeface="Arial"/>
              </a:rPr>
              <a:t> | Brussels Meeting | 28.06.2010</a:t>
            </a:r>
            <a:endParaRPr b="0" lang="en-US" sz="800" spc="-1" strike="noStrike">
              <a:solidFill>
                <a:srgbClr val="0034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34:54Z</dcterms:created>
  <dc:creator>Christina Steininger</dc:creator>
  <dc:description/>
  <dc:language>en-US</dc:language>
  <cp:lastModifiedBy>M</cp:lastModifiedBy>
  <dcterms:modified xsi:type="dcterms:W3CDTF">2010-07-06T11:38:44Z</dcterms:modified>
  <cp:revision>84</cp:revision>
  <dc:subject/>
  <dc:title>CHANIA MEETING</dc:title>
</cp:coreProperties>
</file>